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FA78-5548-4F4C-AC3C-01523DDA1C7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57B2-59B2-49A2-B8ED-1DA91CD1A8E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0AD-59D6-44A3-83A2-61C14D8A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2E4-A720-4645-99D9-FC920FDF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86A-FA0B-4792-B200-7B41695D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0D5-735C-42C3-B914-2533F822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BFC-A250-4BEA-8DD5-E2422C41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B77-EB29-4C94-8B77-1B4CD4D8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60B-31FB-4ABC-82F6-75893C1D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F06-1A38-4A7C-A911-BEFBDACD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A7A-2D61-48BD-89BA-82EBF99C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B3F-26E6-4F9A-B573-8CA50552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207-632D-45F6-8C99-D9E3C2AA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52B-456D-4090-A9E5-68A998AB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D6F3-1570-445B-B1AC-2A52AEF1524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55640" y="3357720"/>
          <a:ext cx="7777080" cy="3311280"/>
        </p:xfrm>
        <a:graphic>
          <a:graphicData uri="http://schemas.openxmlformats.org/drawingml/2006/table">
            <a:tbl>
              <a:tblPr/>
              <a:tblGrid>
                <a:gridCol w="1008000"/>
                <a:gridCol w="6769080"/>
              </a:tblGrid>
              <a:tr h="1006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공모 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택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[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술주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] 1.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ICT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기술을 발전 및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Water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플랜트에 접목한 효율성 제고 방안을 제안하시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[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술주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] 2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두산중공업의 미래를 위한 유망 신기술 혹은 신재생 에너지 기술을 제안하시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[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마케팅 주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] 1.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두산중공업이 보유한 기술을 활용하여 국내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CSR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차원에서 적용 가능한 새로운 아이디어를 제안하시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[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마케팅 주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] 2.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Arial"/>
                          <a:ea typeface="윤고딕130"/>
                        </a:rPr>
                        <a:t>전기 부족국가를 선정하고 전력난 해소를 위한 두산중공업 진출 전략을 제안하시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05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선정 배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이디어로 공모주제를 선정하게 된 배경 및 취지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55640" y="765000"/>
          <a:ext cx="7777080" cy="505080"/>
        </p:xfrm>
        <a:graphic>
          <a:graphicData uri="http://schemas.openxmlformats.org/drawingml/2006/table">
            <a:tbl>
              <a:tblPr/>
              <a:tblGrid>
                <a:gridCol w="1008000"/>
                <a:gridCol w="6769080"/>
              </a:tblGrid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팀 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55640" y="1484280"/>
          <a:ext cx="7777080" cy="1685880"/>
        </p:xfrm>
        <a:graphic>
          <a:graphicData uri="http://schemas.openxmlformats.org/drawingml/2006/table">
            <a:tbl>
              <a:tblPr/>
              <a:tblGrid>
                <a:gridCol w="1008000"/>
                <a:gridCol w="1728720"/>
                <a:gridCol w="1368720"/>
                <a:gridCol w="1655640"/>
                <a:gridCol w="1079640"/>
                <a:gridCol w="936360"/>
              </a:tblGrid>
              <a:tr h="33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화번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팀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`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3238200" cy="687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5869080" y="20016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2013 </a:t>
            </a:r>
            <a:r>
              <a:rPr b="1" i="1" lang="ko-KR" sz="12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두산중공업 청년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Energy </a:t>
            </a:r>
            <a:r>
              <a:rPr b="1" i="1" lang="ko-KR" sz="12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공모전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표 4" descr=""/>
          <p:cNvPicPr/>
          <p:nvPr/>
        </p:nvPicPr>
        <p:blipFill>
          <a:blip r:embed="rId1"/>
          <a:stretch/>
        </p:blipFill>
        <p:spPr>
          <a:xfrm>
            <a:off x="463680" y="762120"/>
            <a:ext cx="8289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9:04:49Z</dcterms:created>
  <dc:creator>h113945</dc:creator>
  <dc:description/>
  <dc:language>en-US</dc:language>
  <cp:lastModifiedBy>황인창(Inchang Hwang) 두산중공업</cp:lastModifiedBy>
  <dcterms:modified xsi:type="dcterms:W3CDTF">2013-08-23T00:53:36Z</dcterms:modified>
  <cp:revision>26</cp:revision>
  <dc:subject/>
  <dc:title>슬라이드 1</dc:title>
</cp:coreProperties>
</file>